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C8B70-EA33-438F-9D53-F877FC1378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2918C-F6E7-4B58-81A2-A6F67A4EA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143B2-9D0E-46E3-B8FD-F7BE18C8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7AFD4-94EC-4A9E-B7A3-5F872DC634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FA83E-4251-4CC2-A0F4-57D787003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48CAF-F6E5-4538-A0AA-89540890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3539E-219D-466B-B2F1-441B2BBF6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B86BC-3741-4402-B7C2-AC70174D8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7237A-A517-4304-B458-67E58D3EE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ED877-A50C-4F93-909F-AF37A2C12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5539A-47D1-4E46-82DF-79D1FD397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4DD8E-905A-40BF-B2B5-1A294CE80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3C0E0850-6B1D-4F8F-A701-0F327424E550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4952880"/>
            <a:ext cx="451980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bind9.html" TargetMode="External"/><Relationship Id="rId2" Type="http://schemas.openxmlformats.org/officeDocument/2006/relationships/hyperlink" Target="http://www.isc.org/products/BIND/bind9-beta.html" TargetMode="External"/><Relationship Id="rId3" Type="http://schemas.openxmlformats.org/officeDocument/2006/relationships/hyperlink" Target="ftp://ftp.isc.org/" TargetMode="External"/><Relationship Id="rId4" Type="http://schemas.openxmlformats.org/officeDocument/2006/relationships/hyperlink" Target="http://www.isc.org/services/public/lists/bind-lists.html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999720"/>
            <a:ext cx="624816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stalling BIND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d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/configu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udo make instal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9FDC7-5C67-41DF-9375-E9EFBE9A4DA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ppe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xecutab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s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nssec-keygen, dnssec-makekeyset, dnssec-signkey, dnssec-sign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lwresd, named-checkconf, named-check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ndc, rndc-confge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amed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i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host, isc-config.sh, nslookup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supdat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d libraries "happen"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A5733-BFB4-4F17-84A3-BBD7039B206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right version is now install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v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6CB32-29E0-4712-9065-B2D7AD0728F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2A6D9-19AD-48C9-9543-3B54C6054FB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9 Mailing Lis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oining mail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services/public/lists/bind-lists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9-users, bind-annou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bind-users is for bind8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rchi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ml-archives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33D24-420C-4A96-BBD4-0C38536C909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A29BB-DA46-43FE-AF68-D1F2AF5E52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trieving 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net Software Consortiu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packages we'll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69C1B-96FB-481F-83A8-8C3405F628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net Software Consortium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urce for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Software: DHCP, NN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der Development: OpenReg (EPP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48230-B930-4AAA-B55B-D74721BF77D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n use, available, obsolet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on't start to use i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igrate to Version 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(Okay, BIND 8 is faster than BIND 9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9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urrent vers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 Candidate (Bet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napshots (Alph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ever Use Snapshots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D9139-8F05-49DC-AFC7-7CA570912DA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BIND 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/products/BIND/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http://www.isc.org/products/BIND/bind9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http://www.isc.org/products/BIND/bind9-beta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2.rc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ftp.isc.org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 - anonymou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hange Directory to /isc/bind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2rc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tp://ftp.isc.org/isc/bind9/9.2.2rc1/bind-9.2.2rc1.tar.gz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E2C67-5A90-4F4B-AB51-ABF00759050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Packag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SS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ill be needed for DNSSE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et's wait on that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4D7E6-ACA0-4717-AAFD-C1DC25075B8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6F416-FEF5-4DD3-9D4C-4227B6248FB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npack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ar -xzf bind-9.2.2rc1.tar.gz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compresses and creates direct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-9.2.2rc1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's in ther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lot of stu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configure (scri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doc/arm/Bv9ARM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's Reference Manu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ood source!!!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1DD0F-3787-4B8C-B058-594D3EFACF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1:37:02Z</dcterms:created>
  <dc:creator>ARIN Net</dc:creator>
  <dc:description/>
  <dc:language>en-US</dc:language>
  <cp:lastModifiedBy>Marmaduke Wildebeeste</cp:lastModifiedBy>
  <cp:lastPrinted>2009-04-22T19:24:48Z</cp:lastPrinted>
  <dcterms:modified xsi:type="dcterms:W3CDTF">2003-06-01T20:46:17Z</dcterms:modified>
  <cp:revision>11</cp:revision>
  <dc:subject/>
  <dc:title>Getting and Installing BIND</dc:title>
</cp:coreProperties>
</file>